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3D1B-6397-427C-924A-4EA96195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466F-BD4F-4E5F-A918-EB080C9B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0BD4-110E-476D-807B-4CC630EC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94A9-452F-4DFB-9016-17979600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CC72-FD49-4813-9463-3BEE9211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B56-8923-41F0-8035-CC82F493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C0DA-6AC5-408D-8897-B198C468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109-C3A8-4EB0-9765-BB41186B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C0C-011F-4347-B7C0-2712CAEF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4CC-489F-4ACC-9E6F-FDB5C527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93E-BF74-42E1-A67F-3E83DAA5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AF0-12C9-4580-86A0-DDA47313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7C38-8378-48DE-AA46-EADFACBF8C7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916280"/>
            <a:ext cx="86342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ذين أنعم الله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غضوب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ضال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57531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56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3"/>
          <a:stretch/>
        </p:blipFill>
        <p:spPr>
          <a:xfrm>
            <a:off x="679320" y="1125360"/>
            <a:ext cx="8342280" cy="52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569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3"/>
          <a:stretch/>
        </p:blipFill>
        <p:spPr>
          <a:xfrm>
            <a:off x="831960" y="1197000"/>
            <a:ext cx="8062920" cy="49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105520" cy="48240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44640"/>
            <a:ext cx="869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سبحانه أخبر قبل ذلك بأنه رب العا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وان 1"/>
          <p:cNvSpPr/>
          <p:nvPr/>
        </p:nvSpPr>
        <p:spPr>
          <a:xfrm>
            <a:off x="179280" y="342900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ؤمن بأنها من عند الله تعالى وهي اليوم محرفة ومنسوخة ونسخها القرآن الكر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71280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8569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2"/>
          <a:stretch/>
        </p:blipFill>
        <p:spPr>
          <a:xfrm>
            <a:off x="152280" y="981000"/>
            <a:ext cx="8839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اني الكلم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23080" cy="51847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50920" y="249228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يد المدبر للشئ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22200" y="3267000"/>
            <a:ext cx="489744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نصرف العبادة لك وحد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24000" y="463392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نا وأرشدنا ووفقن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5283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يق الواضح الموصل إلى الله وإلى جنت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6021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ملائكتك ، وأنبيائك ، والصديقين ، والشهداء ، والصالحين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وصوف بالرحمة البالغة هو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طاع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عباد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بعد عن أسباب سخط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وردت كلمة (الرب) معرفة بالألف والل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لا تكون إلا لله تعالى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718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لرح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292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(الرحمن) أبلغ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الرحيم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4869000"/>
          <a:ext cx="8642160" cy="1108080"/>
        </p:xfrm>
        <a:graphic>
          <a:graphicData uri="http://schemas.openxmlformats.org/drawingml/2006/table">
            <a:tbl>
              <a:tblPr/>
              <a:tblGrid>
                <a:gridCol w="7313400"/>
                <a:gridCol w="1328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السبب أن صفة (الرحمن) أبلغ من (الرحي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لأن الرحمن ذو الرحمة الشاملة لجميع الخلق في الدنيا وللمؤمنين في الاخر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الرحيم ذو الرحمة الخاصة بالمؤمنين يوم القيا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تخصيص الملك بيوم الدين في قوله تعالى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فيه عما عداه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سبحانه أخبر قبل ذلك بأنه رب العالم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عباد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ل الذل لله تعالى مع كمال الح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زام المسلم بأمر به بفعل الطاعات والبعد عن المعاصي التي تحجب القلب وتضعف القل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3645000"/>
            <a:ext cx="8665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تزام المسلم بأمر به بفعل الطاعات والبعد عن المعاصي التي تحجب القلب وتضعف القلب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نال الأجر والثواب من الله تعالى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911320" y="1465200"/>
            <a:ext cx="1812960" cy="46836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250920" y="4365720"/>
            <a:ext cx="86659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يل وجوب التزام المسلم بأمر به بفعل الطاعات والبعد عن المعاصي التي تحجب القلب وتضعف القلب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3787920" y="4838760"/>
            <a:ext cx="5105160" cy="5349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5373720"/>
            <a:ext cx="86662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ين المقبول عند الله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6093000"/>
            <a:ext cx="8666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غير دين الإسلام من الأديان السماوية الأخر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سخت بعد بعثة محمد صلى الله عليه وسل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484280"/>
            <a:ext cx="8665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دين المقبول عند الله هو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مع الله بيت العبادة والاستقا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لا قيام بالعبادة على الوجه الأكمل إلا بمعونة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415880" y="2049480"/>
            <a:ext cx="7415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3795840" y="981000"/>
            <a:ext cx="5079960" cy="49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109440" y="1484280"/>
            <a:ext cx="8926560" cy="504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5"/>
          <a:stretch/>
        </p:blipFill>
        <p:spPr>
          <a:xfrm>
            <a:off x="0" y="2708280"/>
            <a:ext cx="549576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6"/>
          <a:stretch/>
        </p:blipFill>
        <p:spPr>
          <a:xfrm>
            <a:off x="109440" y="3719520"/>
            <a:ext cx="5391360" cy="78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7"/>
          <a:stretch/>
        </p:blipFill>
        <p:spPr>
          <a:xfrm>
            <a:off x="1440" y="4653000"/>
            <a:ext cx="5499360" cy="79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8"/>
          <a:stretch/>
        </p:blipFill>
        <p:spPr>
          <a:xfrm>
            <a:off x="971640" y="5661000"/>
            <a:ext cx="441936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